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E044C0-52B9-4E08-AB41-20E9D28063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CBBC7A-79F4-4EF1-B8F8-A90FE3BF86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604FDE-C929-4FF3-BAEB-4CCCBB4FE7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F3B2A8-5716-4ADE-A116-181000F2A2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BAF925-9288-4E7E-BD92-43933A95BF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1DE5FE-66FE-40BE-ADEC-6CF6010A7D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9E1C83-A2B4-47C4-8A40-51214B41A8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CF8A40-1046-4A3C-89B2-AA7D908636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0AA4B4-3687-459E-B0C6-661502ED92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72A79C-1DBC-4417-8EB7-52EDBD210E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D43E3B-6D1D-4C87-8147-8AD83023F2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1DDE89-7940-4500-8B9A-3D7C4BA34D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2A238B-AC7D-430F-8C4D-96C9BEF472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54BBA0-EEB9-4E79-95F4-E7A2645135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EE4838-2020-4446-938A-9E172EA10A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9909C5-1989-417F-A6A2-24B9B0C273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FC1651-AF95-43FE-8D2D-FBC69FFADB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9EB924-C453-4F28-B36E-EBD8B71F10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AED1FC-5863-4764-A81D-B7632A4206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FCE94C-DFDC-48AF-AA2A-8044701745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70D33C-527E-4A85-B9A8-E0C0B57591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AC503C-F5C8-44F7-925F-36D430AF27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1630CA-380E-4E61-9278-5074447AC6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8A5F5D-69F8-492A-96DD-9317D2D28E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0CDD5-405C-423C-BAF3-EB68EA89CF8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800E9-AC39-46F1-9F82-1F694C4E022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9C696FD-C6F7-480C-AA93-8F4717CA9C6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C3CE57A-09AF-432A-8118-1B7E619A210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8EE597-933E-4F64-A5AC-2E8F03B26B3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106380-607B-4052-887D-E6B66F09341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BAC0A7-155C-4C6E-8956-4DEECA829AC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2A3033-37C2-4BA4-AF5F-3D4BC61009F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35F1AA-F6F5-41A8-A503-DA77A5A2EAF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7D85D7-A84C-4914-AF09-F167E86D3E11}"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A2F7D3-7057-44A5-B8B4-FBB8932EB8E8}"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DE864A-BEBD-4907-ABA2-9E85E007F07E}"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5CC7A9-32F4-4168-A56B-F1D9883A52E6}"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D4FC1B-44EC-4BBA-8017-3921AEC27359}"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300276-4228-448F-86BA-6EA89439BE1A}"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8906C0-EACF-489B-AC5A-7B5DB3A60BC8}"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80F42B-6E06-464B-86B2-5D1DE8FCFB20}"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C375C6-7F00-4F9F-98E9-561E3C2E0DD3}"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F156D8-17F1-4B7E-B4D9-11DAC8691939}"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FA91C0-EC16-4FE7-A89F-61ABC618C828}"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399EAD-FACA-489B-BFB7-A2D8509BABA9}"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D6175E-CD42-40A0-9D85-838CBD21599A}"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A764F6-B18A-443C-BC72-89F9B8E55458}"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607157-B269-4478-B748-FD9F484149FE}"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7D3384-7BBB-4EE7-87D0-AE955C5379F5}"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2ABFB3-400E-4814-9479-7AB8083A0488}"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B7084C-B7A1-4655-9E60-494E8C2A1235}"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CA4824-8CBA-4B7D-BDD7-28A80CB69C3E}"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901382-90A0-4681-9C0B-4E536E62489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4A2AC58-3925-4B26-BEBB-A4F4E152D3EB}"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A706B9-98B1-4703-B6E0-415FF7FFBC36}"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3E6125-F891-4B83-A69B-0F4E14D055F8}"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D49579-9331-424E-A1EE-C8D29AD6643B}"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71004B-5279-4B48-87B9-A6F33F8B6ACF}"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195497-6EE4-419E-8FF3-954DBA559399}"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3D6BCD-D9F9-448F-B243-196368384A0E}"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DD4D39-FE59-4C2A-8ED6-767424A8E5E1}"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5EEFFC-5CC7-47FD-9DBA-5D53930E9CC6}"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837363-5F1C-4C51-88CF-7BB9005C646E}"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06D82E-C075-4D9F-974D-598048CAB0D5}"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0E8216-DBAC-4F15-97CA-BFAE1836BA22}"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4F4CA7-D98B-41D1-A59E-0709788E8C8D}"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99B8B3-7E36-4493-A03E-994C4C9B2758}"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26E01D-619D-4748-ABF2-E14BEB884EE3}"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DC9759-ECEA-457A-8F55-496DFBF259D0}"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E4ADCB-A4DE-4C56-9738-0940D5C1883E}"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23AC26-4E27-4D1F-B6A9-B1F1A3CFD863}"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7DE2A0-BA8F-4FE5-A783-BA17F0BB8487}"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FB3D3A-60A7-4F09-B060-7CA44627FD56}"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BDD952-8C3D-4F67-BDA6-1D455B2A28E2}"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666DFB5-BAA2-41EC-B53D-D2B8B7B9ED41}"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241024-C244-495C-ABEE-A4D30B98EF9F}"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A5CAD6-A26D-49C6-8058-8BC117FB70E4}"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1F3FF37-2CA0-45C1-B24C-5E08107F49A0}"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7E2746-9A4E-470B-8671-012C17CA0809}"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2A34D6-FD68-4BB6-B316-DD81E23080E7}"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C463A8-DC76-49F4-AC38-C4D2FF93A47D}"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4A0339-1114-4143-9204-20E6C92E527E}"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93A679-F871-40F5-9192-DD13B6E1B6E9}"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47F091-6617-442C-9907-75F0A202958A}"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0E9001-0F04-4DA2-8F83-97768C78AB2E}"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F963F74-7912-4E44-BD06-F4882D5E0E47}"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FFD33C-3DF8-4DC2-9BD7-4DAC6E76E9E0}"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E5299B-7D40-4907-8316-84C4ED1C8C63}"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2FE8FF-1558-46E6-97C7-FC8A5E39ED9B}"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DCFDA2-D6FB-4858-A36D-6A4E270B8197}"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9BCCBD-3D76-4320-B9F1-50EEF67E019B}"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9ED54F2-473A-40E4-B585-D1AE71AF329B}"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64D553-CE8C-4CC0-8A91-1AEA5656B737}"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D7F593-7E0C-4BCC-A8F2-B1BDDEA4416F}"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3DA9CF-4C07-4AF4-ACDB-88EB5C3FEDFE}"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35F69F-54E5-49AB-97CB-A7DCD3145274}"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BB3D02F-F2EB-481F-B5F5-067EAF7C603A}"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F58F50-0865-4357-8BD9-9680CF5BE85C}"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18972B-4F56-4527-ADA0-161C37210E3E}"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A7BB42-805F-436F-86B6-0C1AF8E989D9}"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849D88-1C22-45CC-8B04-8FAC85ED61AB}"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7B4D66-531D-4C32-88A0-A68E7AD5CC85}"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1AA85F-7273-46C3-A355-DD65A5CB0892}"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A826B83-2DEF-41B9-AFAB-69FE3BED91AD}"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7A23F1-1075-43CE-B05B-62D1A9E9F0B7}"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4D698B-0020-49D1-B95A-B5437CAB3EED}"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DC14F3-D1AA-4811-A396-9BCDC0B73D72}"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DE26F1B-AF95-4006-A657-5BDB9A89FFCC}"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380ED1-9DDB-47AF-8DBD-5BAAA7E41BEE}"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4925CAA-100C-4393-B576-1CC2869DDB7E}"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BE2FA0-3100-4A46-BAD5-1B701847804D}"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2FA5F9-01CD-4060-A11F-828871442D0F}"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E78A84-272B-430C-8E64-9B24D41BD98C}"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3C357C-6D70-4289-9959-FC371910D1A5}"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DA7D65-5021-465C-AA6A-B187FB8A7E96}"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BF8E4B-5FAB-4316-B18C-B8FCF4FFA8B9}"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891D50-FFA8-4DB1-AE58-FE91DD988C5E}"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4FF454-4545-49DD-8E45-E5A778CEB6C5}"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36A10E-C7F4-4353-8524-5F922697C335}"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C8CB61-21C0-4852-92AF-1D35F5171A67}"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F8CFBB-8D3B-43FB-9B3D-7CD4BB9A62BD}"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02DB6C-27EA-4A98-85AB-B7AA10E0C7D1}"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39DE8D-4F97-4BE4-9268-1C0BF60477E1}"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022762-FAF9-40D5-B77F-95D0550EEEED}"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E046E9-DFAF-41A4-BA11-59BBFFD924AF}"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EC4ED16-533C-4019-AE50-4A07B1C4DC80}"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97BC0B-383D-4FAA-9E3B-951C99D067B8}"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8FAC15-4781-40AB-BD4F-823B0DC80B44}"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4FFC76-981B-41DF-98C1-5A4E75B519D4}"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BAFFF4-2568-4F45-A7D1-564875F4E0DE}"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59481D-5A17-4789-94C6-33379DD8395D}"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3BAD82-8071-430D-9C61-A8B8D60F4BB6}"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F1DF37-B99C-4FD2-BDA6-65BAF85080F5}"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38A72D-E587-4F2F-96E1-FD14F850FAED}"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62A719-58AC-441C-9FEB-0A3BE467CA52}"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B6E41A-DC8A-40A8-AA96-DFC4EEE933E5}"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9CDB16-3A56-4782-A484-CA92C4A989B3}"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785857-26C3-464F-99A6-0606E802B51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ED0F18-19A7-4517-96F4-DBD0151B996C}"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C32591-288A-49D1-BB2A-BFEBA3D8D28E}"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0EEE16-EEE0-4A76-A766-ECA125025F5A}"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F9751E-E6F8-4B77-A956-47A9A8CA13BF}"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8FB3B9-A9EB-44E8-AB0E-7DA940E04449}"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B16A32-6466-482F-872A-D3E2FC985D11}"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88EAEF-E7C3-4283-BC5F-D341FD26965A}"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AFC3C7-3249-4CBB-A522-D1DF78A58E40}"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BBD731-BB5E-4C5D-A9AC-DAAA6D80A096}"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937BFB-BDDF-49BB-BAC4-36B6C65B8196}"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03BE90-4AAD-43EF-9DD0-D0A606D06FFF}"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0977D0-3D67-4E79-96D4-04D47C28F9C3}"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6B7B89-8E86-4542-B368-E7257D38278D}"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EDCA17-0B7A-490D-B4C7-E8E54253C062}"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26BE3E-BCCF-4B9B-B142-AEF3BDFE469B}"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7601EC4-4526-44F8-9126-6FCE4D320E93}"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1AB392-6BBB-46F5-A01E-DDDAF03A27D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C9977D-AB06-4415-8602-D97A7D22254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BD7319-A913-41EB-9D55-F024D0B715E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1DC8A7-D5E5-4E07-B41C-939A0D8C74B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42D800-58BE-4DDE-ADD3-3AD994F8A44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765852-5250-403E-AB1A-36C1F947FA7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749961C-21D9-446B-8BDD-5DF536D269B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AB392B-B23F-4229-B976-48B75544F5D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F44E1D-35EF-4063-AD23-AEC78BBDBA9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A5B462-AFAD-4C2B-80EC-8C230601772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7AE1F3-1DB8-48CD-8F25-AEE78BA9E9F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FBD71A-0F1C-4131-B9D4-FA52CA70B1A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4A1F4E-0675-46BE-AD05-B3A6EE079FE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6A0A3E-AFBE-4F6B-9EAF-A971C391D92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486D6C-BC2E-4D85-AEA1-C07316CD407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543EA5-6C30-4846-8F01-04635256A24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0E48D7-D274-4104-AFF8-6D8DBF1F280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9FF6BE-1E38-47A7-A8F4-2374B70E0F9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031D1F-669C-4700-8839-D16C9BA5045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2206F6-A653-44AF-86C8-A55A14ABE46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4B8283-4BD6-4447-AE66-B93671775BA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5DE9A5-C88C-4950-A41F-4EA890FD4DB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7BEFAC-4484-4014-9853-A8E4514B9A6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C4A282-5BEA-4F0C-8AD3-8D6E73F5BEC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666C24-604F-4D10-BA92-120918D8FF3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B84AD1-385E-4A6C-80D2-AEBE6E4703E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743ADC-EB99-4C2D-BABD-F8CE5C47120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ABD958-CFB3-4CFA-A0E7-18DAF4FE238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30C16B-F309-4594-9B7B-8CD6DCBF641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6D297C-BB91-4A84-8528-ED0D50B309C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58EA02-A046-4040-86D4-9C2B477A6BF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1F5A83-7078-4931-9D87-9640D14B651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4F6C04-BFC5-457C-B871-408DC78E54A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A24D7A-AC16-481A-A705-6BA4478C241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F6627D-C84D-48CE-BE76-CF399736BE6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5DC58D-9539-4B99-BC1D-7F68542498E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CBC120-1F2F-4771-B7EC-E634453A960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646429-DA4C-42B2-8858-8A62DAD91F4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E97930-6398-40FF-A46B-408C5CA6C99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FF67C3-FB44-4074-BA80-C6C6B6AA217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A41F3E-10C8-47D1-971D-9C0A5F6DBF6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1013D5-808A-42EA-B7CC-2044C456146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56088B-6259-4E95-B9FA-F8FF392AB2F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D84B79-B83B-439C-8598-9738CFA0E85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F2EFDD-B634-4952-836F-0BE4C21E779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570A52-6963-47D8-ACF2-7EF4DA44A42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D653A5-3732-45C4-AF99-0ADEA794986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1ACE264-1398-4C13-B837-2FADD0BAB05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454457-3ED5-4A69-8604-5A849707249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26BCE1-591A-46C1-8556-F49F4B6FA90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527CE7-CE22-4DD0-A0D4-15D58F704E4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61189D-1824-4AC2-A9FA-7F8107F39F5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A7639D-11AF-4509-8F8B-9D30AF3501A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8C1E14-E53B-4B57-8BCE-BCF3501BA4B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233108-9869-4445-9B9F-D42F609E889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A9CEE1-A6FB-41F5-B2BB-FE14DDBFD01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4DDCFE6-EF8D-45F7-BF1D-CBFDC133D72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AD20CA-4348-4706-87C1-CE3EF16CE16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D9611C-794F-4B34-B90C-BEB865082E9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E596E6-9637-4EB2-A103-1DE933F6CD2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CEF2CC-EA0A-4D99-B582-4F291864F09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84B310-E091-4215-9E04-CB81C4D7BDA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360F5C-6A9E-4ECD-9E1D-281C4FA26D3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D48B0B-40C1-4FA3-B833-67C3008D053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32316C-D469-47AB-86C6-93372FB549C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808840-26CC-4CE7-8BB6-718DF6E7124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460D3C-866E-42F5-9464-626D9024390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7E317E-7D6E-4D90-98EB-1C865179E03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E5A962-CFEF-494B-B56A-007C3373FC2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8ABF8A-8063-4C2F-97BF-906C208C60E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128405-3B58-460F-90CF-2A80C66FAD0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C6D8936-3035-49D0-A114-5AE34005CBB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2B44ED-F45F-4FC6-8519-0E25734428F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D3E4D0-F3F2-42A1-9A6E-59D9C3922AE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A4A5E5-BEF6-4717-9A20-1139258B6EE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7B3D1A-7FFE-439D-B589-BA277887ABE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1CB012-5BDB-48D3-B6E4-1914FA1A270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4238C5-A671-436F-A3DC-A17EC3279D1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8265A5-AD29-41F8-9E44-6B578121237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5EB48D-53ED-4AA6-A4D9-1A2EF52DD63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F1823D-80E7-4243-834A-0BE08CDC652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A5D248-2D68-4884-A840-456BD760460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AC09B5-C67B-48BE-A08D-F6B30A99D26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BC22F7-ADDD-40AC-8ADD-2C344C44803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8ABF7B-D03D-4287-816E-7289A2AE867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